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13D-37D2-4904-A733-19539817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D15-BACA-449B-9918-E861ACA3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DC3AD-92ED-41F5-9970-EC3FE207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9DA06-B287-4E02-B537-0F2FE7F9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B9987-80A3-41BD-81F5-9249AD0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6F84-E326-498A-ACA6-CE6E8EA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FF1F9-771D-4AA0-900F-6DBF7216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603E2-BA97-4E6F-89D9-C2700A2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791E0-9631-486D-B323-A298103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7DA73-2557-45C5-B258-EAC0D630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C1D3D-BD8B-4CAE-B5FB-E88302AA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4E6E4-15E9-4F81-976B-B7C96F88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0DB-5CC2-4135-9A7B-2CDCE4A9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BF569-3404-4BDB-9EEB-A3F5409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9CE69-E3A4-4FCB-9E76-FDF60CA5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C062F-716C-4442-8A79-022A001A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7658D-0076-4E86-8D37-C5EB3AB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DBAF8-4C47-4DF8-AF3B-18AB09B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D77E-5138-4A38-B011-8AEEB8CA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EE6A7-BE93-4306-81B2-F4870ACC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E595B-7C81-4F1C-BC17-E62D0D3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C0234-F7F3-415A-A536-0A252602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8548A-3847-4994-B3DC-64C63D0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628-DBE0-4524-823E-7D39CE45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1EC2C-F6E8-4BD0-BCD6-69CE8B07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1E03B-617B-482E-95B5-F9035624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50E04-F377-40F3-82F1-E49ED94B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AB291-D7DC-48AD-94B2-2B4300C3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FF5B3-E4F6-4AF4-88EF-E2E32ABA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0B473-51DE-4A49-BD1B-3ABFD03A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12ACA-6573-4423-8C9F-A856EC44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C2041-A5F5-4DF4-AFDE-16BC79D3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D3304-2BF7-4E87-A1AF-7E0E07F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964C-2908-4013-85B0-E3CDF745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60ED-0337-478C-8FA5-D1EA40A7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D8564-0C05-4DF0-B577-756CAF81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3B059-D133-4724-999D-980C0161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55929-74F9-497E-84BA-5D7C1026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E699E-3472-4086-8770-25811DF4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34FB3-527E-46A9-BA03-4CDA1700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5E1D8-456C-4914-9A04-6E7C6844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63B78-AAB8-494A-A35A-0FE1CA1E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D53B2-A893-4B03-BDC7-CDD0150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9F7F5-D1D2-4447-A1AC-8572B4FA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1C278-9F12-4C00-9B24-17B0F6D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CB8A-07F9-451B-A4EC-549EDA4E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C7EB8-CCED-465C-A101-5C1E9CA6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28F00-21B5-49A9-BD9C-935BD644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A3746-2D2B-4A5B-9D67-97C6069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9E2C4-E005-43A7-88CB-E7FA1E30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3FAF8-EE01-427F-BFC7-AFAF3762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428-992B-498A-945F-10F59B60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6822-7572-4D26-80E0-E296B0EC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D7E1-C484-469D-84D6-847F8235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8604-B090-4871-A0C5-7ED5B6F6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689A-ACF7-4A57-AFDB-6CBF8069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F88-71D7-4632-B143-3007781F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997-A95B-4661-A44B-A42B537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6A17-FF71-4012-81A2-6C32C9F5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0E07-0C6A-42A3-A9F5-ECF8F61F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F1B7-47AB-4CDA-802E-98486215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BF5E-2C4F-483E-8893-89EC6F7E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15AF-2380-4A96-AAC5-984B6D76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FE1C-7EC0-4AB1-B4FD-78921A18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2B6F-8484-42B6-AEF0-DAE2F78B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EED6-C142-4707-9550-178868B5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DB27-3205-4A02-BF18-9CE06787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C42-3959-44F2-B0E8-0C809CB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06FA-A8C9-42E3-B9F9-DCE101D8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514E-8897-4444-8FF4-1B66269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E449-570E-4276-B9B1-7288AFF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D82C-8B91-4797-8385-095F45E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586E-07F7-4186-A982-56A51A8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26B5-8B8C-4204-839B-A38CC1A7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9E64-566A-43CD-91E2-B075B686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8227-40F1-417C-9156-8A3E32D3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CEC2-1988-4B9D-8EDD-4550733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7511-8D0A-40C8-8CC4-8B1A18CC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6B9-4C17-4D4D-A292-682A8EF6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2DF2-00DD-4826-AAFA-D151EAE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CF37-E4B4-4EE2-B964-DCAD7BB9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14A6-F89E-4A96-8BF6-BE8577E9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31CA-29AD-43DE-8F03-9D236050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7768-42A7-49FE-88AC-1897A57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6E51-7C55-4E84-9771-3A33710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FD82-BE1A-4E4B-8D24-CB3A46B6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2B0E-7CF9-46AC-A9EC-858631FC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094C-AA60-4695-8629-6343B75C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EA55-5915-4D80-A73A-919D97F8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B04-D737-4651-BCF6-35105A2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C933-DC40-487B-AFBA-9148FBD1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16BF-FE85-4825-9AE4-305819D3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93EE-A6D2-4CC3-A7C2-BE7D79D2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CCF4-5D9F-4AEA-B424-A0879572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753D-C666-407A-B1CF-0647DC3B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7E95-A7F9-4F65-B88C-2023F20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53E8-E079-46C8-A2BC-35DC170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00A5-C2A3-4788-AC79-33AF3BD1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90FC-EB90-4D8F-9325-36BB661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8BBF-0C05-4E6C-A800-F32CA202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0D5-E3A7-4D79-B27D-B8B93D8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D01C-A4D1-422E-9C96-8D8079B0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1558-BBC5-42B8-8E74-1114250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FCA1B-AD4A-45B0-9E4A-130B190A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95A1A-758B-4AC6-8174-F12E3BC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89CD-DF63-4E6F-91E1-32E1B48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435D-49C6-4292-953C-A8BBB494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A523-72DA-42FB-92D4-6B5F5223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7F1A-0310-4F79-B77F-ABF0654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5AD6F-ED4B-4D8D-9610-E2ED1546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99EA-1249-4DD3-8C7B-E1924BB9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52C-5C28-4C14-9D4C-C6280A6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C21F-9A03-4699-8C66-E905B99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FE9F-D341-4F0C-927F-6E0BD973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8F54-EE24-48D8-8A86-0621D4F0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78606-0F36-472F-9EAB-DA3B77A1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A4E99-26B4-4667-9E45-081B939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CA664-2CF0-48D5-AEA5-BAF34F7A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F2F94-B1F8-42FE-AA95-25193F5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DB54-5B2B-401F-AC74-B61E2B7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1A89A-4F69-4A17-A44C-ADDADC7B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C76E-9F9A-468A-A8DE-5C93DA9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ED4-C082-4F47-9563-111410DB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2B58-A5FC-4B73-812F-2C4C5C2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00B4F-1AD2-40E4-A4A5-7BAC27A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874C-8B59-4B1D-A97C-C20E95D1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10E3-5F05-4AFC-8D7B-1CCF217F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1AA7-05E6-47A0-8E9F-58D81368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26313-C007-47B0-925A-EC807B49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ABB3D-52EE-48D0-854A-EA883CF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671C-35CC-4FDA-B594-1273A65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A3929-B56C-4C50-9CC4-916C578D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15920-9BA7-4367-A7B7-72A25AFB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E4A-23AB-44D4-B677-4752E09B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B6B2C-086A-488A-B17A-C0F2208A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19D8-20FF-4F2F-B479-6769B9C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49F2-FD6C-4D22-8013-3DB3A24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C9948-3A1F-4D45-96C4-75BE4E2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9B9B8-9EFB-4512-8E55-47870873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491DF-6E99-41FF-8961-7EFD9BBD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AC2E8-7DAB-42BA-BCD2-B3F7780A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29723-6069-4283-BB73-A3D2D882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0555C-8094-412E-BC5D-DF7C5E6B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516F9-76BC-42D2-AED8-5F44CE9A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F11B-418C-49AF-A703-E93C71B843D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71AC-A605-4E26-90CD-75E6946242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62AB-37CA-46B5-874B-4B068C42C6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974B-13C8-42D1-971D-41E177E452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77F5-0128-4A6F-9A7E-768A36EB502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A86-3E36-49C6-9971-14FF5E6E0D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8F93-0047-4769-A31F-92CD4AB0B5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BBBA-7FDF-451D-B35B-D7FAB93E29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B1AF-154C-4621-94F2-E9D5A8F242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14E-ADC0-4B01-B086-D24AB396BC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572-740B-4E41-A4C6-54F2B2F509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5160-47C6-4385-98E9-D8862ECF10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421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2199960" y="1429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夜间飞行的秘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试验结论：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0" y="12193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、三次不同的试验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证明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，蝙蝠夜里飞行，靠的不是眼睛，它是用嘴和耳朵配合起来探路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577960" y="4581360"/>
            <a:ext cx="3516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、三次不同的试验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证明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，蝙蝠夜里飞行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靠的不是眼睛，它是用嘴和耳朵探路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WordArt 5"/>
          <p:cNvSpPr txBox="1"/>
          <p:nvPr/>
        </p:nvSpPr>
        <p:spPr>
          <a:xfrm>
            <a:off x="3059280" y="6308640"/>
            <a:ext cx="17524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比较</a:t>
            </a:r>
            <a:endParaRPr b="1" i="1" lang="en-US" sz="24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4389840" y="2852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：用可靠的事实来表明结论的真实性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2771640" y="321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2484360" y="34290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3"/>
          <p:cNvSpPr/>
          <p:nvPr/>
        </p:nvSpPr>
        <p:spPr>
          <a:xfrm>
            <a:off x="468360" y="744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根据三次试验的内容，分别用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一词说一句话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39640" y="1465200"/>
          <a:ext cx="8280360" cy="4464000"/>
        </p:xfrm>
        <a:graphic>
          <a:graphicData uri="http://schemas.openxmlformats.org/drawingml/2006/table">
            <a:tbl>
              <a:tblPr/>
              <a:tblGrid>
                <a:gridCol w="612720"/>
                <a:gridCol w="460440"/>
                <a:gridCol w="538200"/>
                <a:gridCol w="458640"/>
                <a:gridCol w="1459080"/>
                <a:gridCol w="4751280"/>
              </a:tblGrid>
              <a:tr h="803160"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一次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r>
                        <a:rPr b="0" i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眼睛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0" i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蝙蝠飞了几个钟头，铃铛一个也没响，那么多的绳子，它一根也没碰着。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二次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三次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结论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69"/>
          <p:cNvSpPr/>
          <p:nvPr/>
        </p:nvSpPr>
        <p:spPr>
          <a:xfrm>
            <a:off x="2668680" y="14018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76"/>
          <p:cNvSpPr/>
          <p:nvPr/>
        </p:nvSpPr>
        <p:spPr>
          <a:xfrm>
            <a:off x="3203640" y="36432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77"/>
          <p:cNvSpPr/>
          <p:nvPr/>
        </p:nvSpPr>
        <p:spPr>
          <a:xfrm>
            <a:off x="4500720" y="34815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78"/>
          <p:cNvSpPr/>
          <p:nvPr/>
        </p:nvSpPr>
        <p:spPr>
          <a:xfrm>
            <a:off x="3276720" y="4572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79"/>
          <p:cNvSpPr/>
          <p:nvPr/>
        </p:nvSpPr>
        <p:spPr>
          <a:xfrm>
            <a:off x="4500720" y="4375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 Box 80"/>
          <p:cNvSpPr/>
          <p:nvPr/>
        </p:nvSpPr>
        <p:spPr>
          <a:xfrm>
            <a:off x="1619280" y="5210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三次不同的试验证明，蝙蝠夜里飞行，靠的不是眼睛，它是用嘴和耳朵配合起来探路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1"/>
          <p:cNvSpPr/>
          <p:nvPr/>
        </p:nvSpPr>
        <p:spPr>
          <a:xfrm>
            <a:off x="539640" y="692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理解词语：证明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1116000" y="1397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证明：用可靠的事实来表明结论的真实性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2597040" y="1981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d9d8ec"/>
                </a:solidFill>
                <a:uFillTx/>
                <a:latin typeface="Times New Roman"/>
                <a:ea typeface="楷体_GB2312"/>
              </a:rPr>
              <a:t>联系上下文找句子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53964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646200" y="26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根据三次试验的内容，分别用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证明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一词说一句话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Line 17"/>
          <p:cNvSpPr/>
          <p:nvPr/>
        </p:nvSpPr>
        <p:spPr>
          <a:xfrm>
            <a:off x="2743200" y="1905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24000" y="4005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把蝙蝠的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结果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12"/>
          <p:cNvSpPr/>
          <p:nvPr/>
        </p:nvSpPr>
        <p:spPr>
          <a:xfrm>
            <a:off x="611280" y="1557360"/>
            <a:ext cx="2881080" cy="395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8" name="Picture 14" descr="CPL_031"/>
          <p:cNvPicPr/>
          <p:nvPr/>
        </p:nvPicPr>
        <p:blipFill>
          <a:blip r:embed="rId4"/>
          <a:stretch/>
        </p:blipFill>
        <p:spPr>
          <a:xfrm>
            <a:off x="611280" y="1806480"/>
            <a:ext cx="2857320" cy="1190880"/>
          </a:xfrm>
          <a:prstGeom prst="rect">
            <a:avLst/>
          </a:prstGeom>
          <a:ln w="0">
            <a:noFill/>
          </a:ln>
        </p:spPr>
      </p:pic>
      <p:sp>
        <p:nvSpPr>
          <p:cNvPr id="589" name="AutoShape 15"/>
          <p:cNvSpPr/>
          <p:nvPr/>
        </p:nvSpPr>
        <p:spPr>
          <a:xfrm>
            <a:off x="2340000" y="4724280"/>
            <a:ext cx="1008000" cy="7207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Freeform 18"/>
          <p:cNvSpPr/>
          <p:nvPr/>
        </p:nvSpPr>
        <p:spPr>
          <a:xfrm>
            <a:off x="1692360" y="2924280"/>
            <a:ext cx="863640" cy="230040"/>
          </a:xfrm>
          <a:custGeom>
            <a:avLst/>
            <a:gdLst/>
            <a:ahLst/>
            <a:rect l="l" t="t" r="r" b="b"/>
            <a:pathLst>
              <a:path w="544" h="145">
                <a:moveTo>
                  <a:pt x="0" y="46"/>
                </a:moveTo>
                <a:cubicBezTo>
                  <a:pt x="90" y="95"/>
                  <a:pt x="181" y="145"/>
                  <a:pt x="272" y="137"/>
                </a:cubicBezTo>
                <a:cubicBezTo>
                  <a:pt x="363" y="129"/>
                  <a:pt x="499" y="23"/>
                  <a:pt x="5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Freeform 19"/>
          <p:cNvSpPr/>
          <p:nvPr/>
        </p:nvSpPr>
        <p:spPr>
          <a:xfrm>
            <a:off x="1403280" y="3068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28" y="140"/>
                  <a:pt x="257" y="235"/>
                  <a:pt x="408" y="227"/>
                </a:cubicBezTo>
                <a:cubicBezTo>
                  <a:pt x="559" y="219"/>
                  <a:pt x="733" y="109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Freeform 20"/>
          <p:cNvSpPr/>
          <p:nvPr/>
        </p:nvSpPr>
        <p:spPr>
          <a:xfrm>
            <a:off x="1116000" y="3284640"/>
            <a:ext cx="2016000" cy="517320"/>
          </a:xfrm>
          <a:custGeom>
            <a:avLst/>
            <a:gdLst/>
            <a:ahLst/>
            <a:rect l="l" t="t" r="r" b="b"/>
            <a:pathLst>
              <a:path w="1270" h="326">
                <a:moveTo>
                  <a:pt x="0" y="46"/>
                </a:moveTo>
                <a:cubicBezTo>
                  <a:pt x="143" y="186"/>
                  <a:pt x="287" y="326"/>
                  <a:pt x="499" y="318"/>
                </a:cubicBezTo>
                <a:cubicBezTo>
                  <a:pt x="711" y="310"/>
                  <a:pt x="990" y="155"/>
                  <a:pt x="12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Freeform 23"/>
          <p:cNvSpPr/>
          <p:nvPr/>
        </p:nvSpPr>
        <p:spPr>
          <a:xfrm>
            <a:off x="900000" y="3645000"/>
            <a:ext cx="2376720" cy="731880"/>
          </a:xfrm>
          <a:custGeom>
            <a:avLst/>
            <a:gdLst/>
            <a:ahLst/>
            <a:rect l="l" t="t" r="r" b="b"/>
            <a:pathLst>
              <a:path w="1497" h="461">
                <a:moveTo>
                  <a:pt x="0" y="45"/>
                </a:moveTo>
                <a:cubicBezTo>
                  <a:pt x="193" y="253"/>
                  <a:pt x="386" y="461"/>
                  <a:pt x="635" y="454"/>
                </a:cubicBezTo>
                <a:cubicBezTo>
                  <a:pt x="884" y="447"/>
                  <a:pt x="1353" y="76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Freeform 26"/>
          <p:cNvSpPr/>
          <p:nvPr/>
        </p:nvSpPr>
        <p:spPr>
          <a:xfrm>
            <a:off x="826920" y="4076640"/>
            <a:ext cx="2592720" cy="912960"/>
          </a:xfrm>
          <a:custGeom>
            <a:avLst/>
            <a:gdLst/>
            <a:ahLst/>
            <a:rect l="l" t="t" r="r" b="b"/>
            <a:pathLst>
              <a:path w="1633" h="575">
                <a:moveTo>
                  <a:pt x="0" y="182"/>
                </a:moveTo>
                <a:cubicBezTo>
                  <a:pt x="272" y="378"/>
                  <a:pt x="545" y="575"/>
                  <a:pt x="817" y="545"/>
                </a:cubicBezTo>
                <a:cubicBezTo>
                  <a:pt x="1089" y="515"/>
                  <a:pt x="1497" y="91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Freeform 27"/>
          <p:cNvSpPr/>
          <p:nvPr/>
        </p:nvSpPr>
        <p:spPr>
          <a:xfrm>
            <a:off x="2268360" y="4508640"/>
            <a:ext cx="358920" cy="288720"/>
          </a:xfrm>
          <a:custGeom>
            <a:avLst/>
            <a:gdLst/>
            <a:ahLst/>
            <a:rect l="l" t="t" r="r" b="b"/>
            <a:pathLst>
              <a:path w="226" h="182">
                <a:moveTo>
                  <a:pt x="0" y="182"/>
                </a:moveTo>
                <a:cubicBezTo>
                  <a:pt x="4" y="151"/>
                  <a:pt x="8" y="121"/>
                  <a:pt x="45" y="91"/>
                </a:cubicBezTo>
                <a:cubicBezTo>
                  <a:pt x="82" y="61"/>
                  <a:pt x="196" y="15"/>
                  <a:pt x="22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Freeform 28"/>
          <p:cNvSpPr/>
          <p:nvPr/>
        </p:nvSpPr>
        <p:spPr>
          <a:xfrm>
            <a:off x="1908000" y="4005360"/>
            <a:ext cx="863640" cy="718920"/>
          </a:xfrm>
          <a:custGeom>
            <a:avLst/>
            <a:gdLst/>
            <a:ahLst/>
            <a:rect l="l" t="t" r="r" b="b"/>
            <a:pathLst>
              <a:path w="544" h="453">
                <a:moveTo>
                  <a:pt x="0" y="453"/>
                </a:moveTo>
                <a:cubicBezTo>
                  <a:pt x="22" y="355"/>
                  <a:pt x="45" y="257"/>
                  <a:pt x="136" y="181"/>
                </a:cubicBezTo>
                <a:cubicBezTo>
                  <a:pt x="227" y="105"/>
                  <a:pt x="385" y="52"/>
                  <a:pt x="544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Freeform 29"/>
          <p:cNvSpPr/>
          <p:nvPr/>
        </p:nvSpPr>
        <p:spPr>
          <a:xfrm>
            <a:off x="1476360" y="3429000"/>
            <a:ext cx="1440000" cy="1079640"/>
          </a:xfrm>
          <a:custGeom>
            <a:avLst/>
            <a:gdLst/>
            <a:ahLst/>
            <a:rect l="l" t="t" r="r" b="b"/>
            <a:pathLst>
              <a:path w="907" h="680">
                <a:moveTo>
                  <a:pt x="0" y="680"/>
                </a:moveTo>
                <a:cubicBezTo>
                  <a:pt x="37" y="532"/>
                  <a:pt x="75" y="385"/>
                  <a:pt x="226" y="272"/>
                </a:cubicBezTo>
                <a:cubicBezTo>
                  <a:pt x="377" y="159"/>
                  <a:pt x="642" y="79"/>
                  <a:pt x="90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Freeform 30"/>
          <p:cNvSpPr/>
          <p:nvPr/>
        </p:nvSpPr>
        <p:spPr>
          <a:xfrm>
            <a:off x="971640" y="2924280"/>
            <a:ext cx="2087640" cy="1296720"/>
          </a:xfrm>
          <a:custGeom>
            <a:avLst/>
            <a:gdLst/>
            <a:ahLst/>
            <a:rect l="l" t="t" r="r" b="b"/>
            <a:pathLst>
              <a:path w="1315" h="817">
                <a:moveTo>
                  <a:pt x="0" y="817"/>
                </a:moveTo>
                <a:cubicBezTo>
                  <a:pt x="140" y="590"/>
                  <a:pt x="280" y="363"/>
                  <a:pt x="499" y="227"/>
                </a:cubicBezTo>
                <a:cubicBezTo>
                  <a:pt x="718" y="91"/>
                  <a:pt x="1016" y="45"/>
                  <a:pt x="131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Freeform 33"/>
          <p:cNvSpPr/>
          <p:nvPr/>
        </p:nvSpPr>
        <p:spPr>
          <a:xfrm>
            <a:off x="684360" y="2276640"/>
            <a:ext cx="2374920" cy="1368360"/>
          </a:xfrm>
          <a:custGeom>
            <a:avLst/>
            <a:gdLst/>
            <a:ahLst/>
            <a:rect l="l" t="t" r="r" b="b"/>
            <a:pathLst>
              <a:path w="1496" h="862">
                <a:moveTo>
                  <a:pt x="0" y="862"/>
                </a:moveTo>
                <a:cubicBezTo>
                  <a:pt x="147" y="594"/>
                  <a:pt x="295" y="326"/>
                  <a:pt x="544" y="182"/>
                </a:cubicBezTo>
                <a:cubicBezTo>
                  <a:pt x="793" y="38"/>
                  <a:pt x="1144" y="19"/>
                  <a:pt x="14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2268360" y="49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障碍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611280" y="476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读课文第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节，动手画画示意图，说说蝙蝠用嘴和耳朵配合起来探路的经过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Freeform 36"/>
          <p:cNvSpPr/>
          <p:nvPr/>
        </p:nvSpPr>
        <p:spPr>
          <a:xfrm>
            <a:off x="684360" y="1844640"/>
            <a:ext cx="2519280" cy="936720"/>
          </a:xfrm>
          <a:custGeom>
            <a:avLst/>
            <a:gdLst/>
            <a:ahLst/>
            <a:rect l="l" t="t" r="r" b="b"/>
            <a:pathLst>
              <a:path w="1587" h="590">
                <a:moveTo>
                  <a:pt x="0" y="590"/>
                </a:moveTo>
                <a:cubicBezTo>
                  <a:pt x="207" y="386"/>
                  <a:pt x="415" y="182"/>
                  <a:pt x="680" y="91"/>
                </a:cubicBezTo>
                <a:cubicBezTo>
                  <a:pt x="945" y="0"/>
                  <a:pt x="1443" y="53"/>
                  <a:pt x="1587" y="4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37"/>
          <p:cNvSpPr/>
          <p:nvPr/>
        </p:nvSpPr>
        <p:spPr>
          <a:xfrm>
            <a:off x="3886200" y="1676520"/>
            <a:ext cx="47577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它一边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一边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人的耳朵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蝙蝠的耳朵却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像波浪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样向前推进，遇到障碍物就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传到蝙蝠的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里，蝙蝠就立刻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539640" y="692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七小节，完成下列填空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                  (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的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 )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相当于蝙蝠的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                  (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611" name="Line 13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14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15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4" name="Group 16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615" name="Line 17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Line 18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Line 19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8" name="Group 20"/>
          <p:cNvGrpSpPr/>
          <p:nvPr/>
        </p:nvGrpSpPr>
        <p:grpSpPr>
          <a:xfrm>
            <a:off x="3686040" y="2492280"/>
            <a:ext cx="505080" cy="1151640"/>
            <a:chOff x="3686040" y="2492280"/>
            <a:chExt cx="505080" cy="1151640"/>
          </a:xfrm>
        </p:grpSpPr>
        <p:sp>
          <p:nvSpPr>
            <p:cNvPr id="619" name="Line 21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Line 22"/>
            <p:cNvSpPr/>
            <p:nvPr/>
          </p:nvSpPr>
          <p:spPr>
            <a:xfrm>
              <a:off x="3686040" y="31125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3686040" y="311220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2" name="Text Box 24"/>
          <p:cNvSpPr/>
          <p:nvPr/>
        </p:nvSpPr>
        <p:spPr>
          <a:xfrm>
            <a:off x="241128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天线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Text Box 26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无线电波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6877080" y="2909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超声波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6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荧光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因为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……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所以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……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说说蝙蝠和雷达之间的科学联系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2"/>
          <p:cNvSpPr/>
          <p:nvPr/>
        </p:nvSpPr>
        <p:spPr>
          <a:xfrm>
            <a:off x="539640" y="476280"/>
            <a:ext cx="777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小结：科学家从蝙蝠探路的试验和研究得到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启示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，发明了雷达，这就是蝙蝠与雷达的联系，所以课题要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和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来连接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914400" y="266688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1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、启示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2843280" y="2637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启发指示，使有所领悟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684360" y="3429000"/>
            <a:ext cx="777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2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、查字典比较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试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实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609480" y="4114800"/>
            <a:ext cx="820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试验：为了查看某事的结果或某物的性能而从事某种活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684360" y="4941720"/>
            <a:ext cx="8154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实验：</a:t>
            </a:r>
            <a:r>
              <a:rPr b="0" i="1" lang="zh-CN" sz="28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为了检验某种科学理论或假设而进行某种操作或从事某种活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8" name="Picture 18" descr="add"/>
          <p:cNvPicPr/>
          <p:nvPr/>
        </p:nvPicPr>
        <p:blipFill>
          <a:blip r:embed="rId4"/>
          <a:stretch/>
        </p:blipFill>
        <p:spPr>
          <a:xfrm>
            <a:off x="8101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0"/>
          <p:cNvSpPr/>
          <p:nvPr/>
        </p:nvSpPr>
        <p:spPr>
          <a:xfrm>
            <a:off x="2357280" y="485784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检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2438280" y="4038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查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9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755640" y="3254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你还知道哪些东西也是受到动物特点的启发而发明的？向同学作介绍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6" name="Picture 12" descr="dolphin04_1024x768"/>
          <p:cNvPicPr/>
          <p:nvPr/>
        </p:nvPicPr>
        <p:blipFill>
          <a:blip r:embed="rId4"/>
          <a:stretch/>
        </p:blipFill>
        <p:spPr>
          <a:xfrm>
            <a:off x="826920" y="1839960"/>
            <a:ext cx="2297160" cy="18064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7" name="Picture 14" descr="007"/>
          <p:cNvPicPr/>
          <p:nvPr/>
        </p:nvPicPr>
        <p:blipFill>
          <a:blip r:embed="rId5"/>
          <a:stretch/>
        </p:blipFill>
        <p:spPr>
          <a:xfrm>
            <a:off x="685800" y="3809880"/>
            <a:ext cx="2309760" cy="18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8" name="Picture 16" descr="9711f32966327e946042cebaffa22592_m"/>
          <p:cNvPicPr/>
          <p:nvPr/>
        </p:nvPicPr>
        <p:blipFill>
          <a:blip r:embed="rId6"/>
          <a:stretch/>
        </p:blipFill>
        <p:spPr>
          <a:xfrm>
            <a:off x="3348000" y="1851120"/>
            <a:ext cx="2367000" cy="1776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9" name="Picture 18" descr="04366-10"/>
          <p:cNvPicPr/>
          <p:nvPr/>
        </p:nvPicPr>
        <p:blipFill>
          <a:blip r:embed="rId7"/>
          <a:stretch/>
        </p:blipFill>
        <p:spPr>
          <a:xfrm>
            <a:off x="3348000" y="3836880"/>
            <a:ext cx="2519280" cy="1827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0" name="Picture 20" descr="20060830201009323"/>
          <p:cNvPicPr/>
          <p:nvPr/>
        </p:nvPicPr>
        <p:blipFill>
          <a:blip r:embed="rId8"/>
          <a:stretch/>
        </p:blipFill>
        <p:spPr>
          <a:xfrm>
            <a:off x="6019920" y="1762200"/>
            <a:ext cx="2819160" cy="1879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1" name="Picture 22" descr="11465480347750578"/>
          <p:cNvPicPr/>
          <p:nvPr/>
        </p:nvPicPr>
        <p:blipFill>
          <a:blip r:embed="rId9"/>
          <a:stretch/>
        </p:blipFill>
        <p:spPr>
          <a:xfrm>
            <a:off x="6172200" y="3784680"/>
            <a:ext cx="25146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39528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作业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68360" y="907920"/>
            <a:ext cx="828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抄写词语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  避开  敏锐  模仿  超声波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障碍物  荧光屏  横七竖八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照样子把下面的句子补充完整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漆黑的夜里，飞机怎么能安全飞行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原来是人们从蝙蝠身上得到了启示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今天是星期一，学校里怎么一个学生也没有呢？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课外收集资料，说说事物之间有什么联系，又是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怎样联系的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back"/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684360" y="836640"/>
            <a:ext cx="7921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选词填空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试验    实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科学家经过反复（    ），终于揭开了蝙蝠能在夜间飞行的秘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常识课上，老师为我们做了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烧纸杯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（   ），看得我们目瞪口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4284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试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实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25"/>
          <p:cNvSpPr/>
          <p:nvPr/>
        </p:nvSpPr>
        <p:spPr>
          <a:xfrm>
            <a:off x="380880" y="762120"/>
            <a:ext cx="79218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敏锐    敏捷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兔子（       ）地一跳，躲开了老鹰的攻击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蝙蝠能在夜间安全飞行，是因为它的眼睛特别（       ）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Text Box 26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选词填空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Text Box 27"/>
          <p:cNvSpPr/>
          <p:nvPr/>
        </p:nvSpPr>
        <p:spPr>
          <a:xfrm>
            <a:off x="2819520" y="228600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敏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Text Box 28"/>
          <p:cNvSpPr/>
          <p:nvPr/>
        </p:nvSpPr>
        <p:spPr>
          <a:xfrm>
            <a:off x="4724280" y="5029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敏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自学要求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187280" y="1989000"/>
            <a:ext cx="727416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读一读：读准字音，读通课文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想一想：在漆黑的夜里，飞机怎么能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全飞行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问一问：读了课文，你有什么问题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2"/>
          <p:cNvSpPr/>
          <p:nvPr/>
        </p:nvSpPr>
        <p:spPr>
          <a:xfrm>
            <a:off x="0" y="533520"/>
            <a:ext cx="8610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学习生字：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蛾 铛 蒙 蝇 障 碍 摹 荧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7" name="Picture 13" descr="田字格"/>
          <p:cNvPicPr/>
          <p:nvPr/>
        </p:nvPicPr>
        <p:blipFill>
          <a:blip r:embed="rId1"/>
          <a:stretch/>
        </p:blipFill>
        <p:spPr>
          <a:xfrm>
            <a:off x="684360" y="24922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8" name="Text Box 14"/>
          <p:cNvSpPr/>
          <p:nvPr/>
        </p:nvSpPr>
        <p:spPr>
          <a:xfrm>
            <a:off x="134964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摹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572000" y="2743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根据音节读准字音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蛾（         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碍（         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003640" y="2924280"/>
            <a:ext cx="3529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é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i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76320" y="38088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  蝙蝠  避开 敏锐  模仿 捕捉 漆黑  超声波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障碍物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试验 铃铛 荧光屏 配合 探路 秘密 横七竖八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摹仿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研究 驾驶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8"/>
          <p:cNvSpPr/>
          <p:nvPr/>
        </p:nvSpPr>
        <p:spPr>
          <a:xfrm>
            <a:off x="304920" y="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漆黑的夜里，飞机怎么能安全飞行呢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原来是人们从蝙蝠身上得到了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4693680" y="508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</a:rPr>
              <a:t>启发指示，使有所领悟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755640" y="9061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蝙蝠在夜里飞行，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还能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捉飞蛾和蚊子，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而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无论怎么飞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从来没见过它跟什么东西相撞，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使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根极细的电线，它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能灵巧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避开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难道它的眼睛特别敏锐，能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在漆黑的夜里看清楚所有的东西吗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7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一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____________________________________________________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Text Box 66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67"/>
          <p:cNvSpPr/>
          <p:nvPr/>
        </p:nvSpPr>
        <p:spPr>
          <a:xfrm>
            <a:off x="2514600" y="38098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眼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68"/>
          <p:cNvSpPr/>
          <p:nvPr/>
        </p:nvSpPr>
        <p:spPr>
          <a:xfrm>
            <a:off x="4427640" y="3086280"/>
            <a:ext cx="424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Text Box 22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228600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三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22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23"/>
          <p:cNvSpPr/>
          <p:nvPr/>
        </p:nvSpPr>
        <p:spPr>
          <a:xfrm>
            <a:off x="2286000" y="3733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11Z</dcterms:created>
  <dc:creator/>
  <dc:description/>
  <dc:language>en-US</dc:language>
  <cp:lastModifiedBy>万润仪器贸易公司</cp:lastModifiedBy>
  <dcterms:modified xsi:type="dcterms:W3CDTF">2020-08-24T03:34:31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